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A58-E566-4ADE-A6E2-92C2203D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856-31ED-4E16-9245-0D194CC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0CD-5D3C-41B0-A4EF-28244BBC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959-C195-41A6-BA07-BA0C012A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27C5A-25A8-4312-B6A7-E83E382D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6F109-D5E5-4DA7-ADD9-286BA933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F8E95-0372-4E0B-9C1C-5517DF23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437C7-C35D-4178-8509-7D2FA53E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706E8-08E4-48F6-BA15-0B96979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FCD66-21D3-47ED-A95E-54480B2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AEAB5-14C5-4E44-863C-07E6242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BAB-B31C-4FFE-A471-9ED04A4F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4AC2-5F64-40D4-9366-60D0F57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BE8C-0F28-4F3D-9FDB-0006455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6AA63-14B4-4096-B650-22EF65AF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ED4C4-7962-4D16-93FF-BBC14040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68D1C-0DCE-4604-A346-1EB90996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97A-CA20-49F7-B06B-C148B1B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ECB-DB04-4846-A0CE-EC32F378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2BF-9745-4C90-A37E-B3A913BA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7F9-93E4-4B2D-874F-AAA75D0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6BA-E50A-4074-B613-1968E452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A07-81AE-4141-B1DE-30DDE1D9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842-B942-435C-B7FC-51DFE19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E1AC-2278-4D5D-B5EF-49CF82836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732-7E65-4976-B0A1-B7A66E1C8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orema lui Thale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ZUL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1844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upa 1 – albastr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a a VII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Şcoala cu clasele I-VIII Sî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adi Patri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z An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gy Lasz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asi Atti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5580000" y="2421000"/>
            <a:ext cx="30974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24360" y="404640"/>
            <a:ext cx="100836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732720" y="404280"/>
            <a:ext cx="1944720" cy="20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916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452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50880" y="2349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73840" y="22050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580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46160" y="15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5440" y="106200"/>
            <a:ext cx="61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Într-un triunghi oarecare  ABC se ia punctul 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  <a:ea typeface="Tahoma"/>
              </a:rPr>
              <a:t>înafara triunghiului AB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4520" y="155736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nfor Theoremei lui Thal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4240" y="21351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708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1760" y="2637000"/>
            <a:ext cx="8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9400" y="234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5240" y="213372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708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1880" y="26370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1360" y="2349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6320" y="38606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581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96600" y="465300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904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0600" y="3860640"/>
            <a:ext cx="9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60880" y="47973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9:57:08Z</dcterms:created>
  <dc:creator>xxx</dc:creator>
  <dc:description/>
  <dc:language>en-US</dc:language>
  <cp:lastModifiedBy>xxx</cp:lastModifiedBy>
  <dcterms:modified xsi:type="dcterms:W3CDTF">2011-02-24T22:03:47Z</dcterms:modified>
  <cp:revision>5</cp:revision>
  <dc:subject/>
  <dc:title>Slide 1</dc:title>
</cp:coreProperties>
</file>